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Times New Roman"/>
              </a:rPr>
              <a:t>Biologie :: E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562752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1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EFE182F-B14E-405F-BF21-27EE83FBAC8C}" type="datetime">
              <a:rPr b="1" lang="de-DE" sz="13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3265200" y="509400"/>
            <a:ext cx="33987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6457680"/>
            <a:ext cx="4300560" cy="339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5627520" y="6457680"/>
            <a:ext cx="4300560" cy="339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1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6D55272-E558-4F95-BD43-8F560E7492DD}" type="slidenum">
              <a:rPr b="1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5627520" y="6458040"/>
            <a:ext cx="43005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828E0B2B-CA5B-49CF-B9EF-8EF071732B12}" type="slidenum">
              <a:rPr b="1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77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Datumsplatzhalter 1"/>
          <p:cNvSpPr/>
          <p:nvPr/>
        </p:nvSpPr>
        <p:spPr>
          <a:xfrm>
            <a:off x="5627520" y="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E825C2F-58D2-4442-ABE8-2AFE966679D8}" type="datetime">
              <a:rPr b="1" lang="de-DE" sz="13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Kopfzeilenplatzhalter 2"/>
          <p:cNvSpPr/>
          <p:nvPr/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Times New Roman"/>
              </a:rPr>
              <a:t>Biologie :: E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eck 1"/>
          <p:cNvSpPr/>
          <p:nvPr/>
        </p:nvSpPr>
        <p:spPr>
          <a:xfrm>
            <a:off x="0" y="0"/>
            <a:ext cx="9144000" cy="53028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512640"/>
            <a:ext cx="9144000" cy="17640"/>
          </a:xfrm>
          <a:prstGeom prst="rect">
            <a:avLst/>
          </a:prstGeom>
          <a:solidFill>
            <a:srgbClr val="2960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rafik 28" descr=""/>
          <p:cNvPicPr/>
          <p:nvPr/>
        </p:nvPicPr>
        <p:blipFill>
          <a:blip r:embed="rId1"/>
          <a:stretch/>
        </p:blipFill>
        <p:spPr>
          <a:xfrm>
            <a:off x="230040" y="20520"/>
            <a:ext cx="459000" cy="4604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6692760" y="44280"/>
            <a:ext cx="219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Cotta Berufskoll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Online-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tangle 2" descr=""/>
          <p:cNvPicPr/>
          <p:nvPr/>
        </p:nvPicPr>
        <p:blipFill>
          <a:blip r:embed="rId2"/>
          <a:stretch/>
        </p:blipFill>
        <p:spPr>
          <a:xfrm>
            <a:off x="609480" y="-19080"/>
            <a:ext cx="622476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179280" y="1871640"/>
          <a:ext cx="8569440" cy="3573360"/>
        </p:xfrm>
        <a:graphic>
          <a:graphicData uri="http://schemas.openxmlformats.org/drawingml/2006/table">
            <a:tbl>
              <a:tblPr/>
              <a:tblGrid>
                <a:gridCol w="1440000"/>
                <a:gridCol w="1019160"/>
                <a:gridCol w="1017720"/>
                <a:gridCol w="1019160"/>
                <a:gridCol w="1017360"/>
                <a:gridCol w="1019160"/>
                <a:gridCol w="1017720"/>
                <a:gridCol w="1019160"/>
              </a:tblGrid>
              <a:tr h="561240"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gaz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erbefo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heater heu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pernwe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a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undsch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heater Magaz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hr Ha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ild.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2808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llpa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uper Ban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kyscra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ide Skyscra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tent-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yer-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077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2822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au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itenabru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d Impre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Text Box 1063" descr=""/>
          <p:cNvPicPr/>
          <p:nvPr/>
        </p:nvPicPr>
        <p:blipFill>
          <a:blip r:embed="rId3"/>
          <a:stretch/>
        </p:blipFill>
        <p:spPr>
          <a:xfrm>
            <a:off x="85680" y="695160"/>
            <a:ext cx="8661600" cy="1084320"/>
          </a:xfrm>
          <a:prstGeom prst="rect">
            <a:avLst/>
          </a:prstGeom>
          <a:ln w="0">
            <a:noFill/>
          </a:ln>
        </p:spPr>
      </p:pic>
      <p:sp>
        <p:nvSpPr>
          <p:cNvPr id="50" name="Textfeld 1"/>
          <p:cNvSpPr/>
          <p:nvPr/>
        </p:nvSpPr>
        <p:spPr>
          <a:xfrm>
            <a:off x="4068720" y="20016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rebuchet MS"/>
              </a:rPr>
              <a:t>Ihr 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7:23:31Z</dcterms:created>
  <dc:creator>Toni Cramer</dc:creator>
  <dc:description/>
  <dc:language>en-US</dc:language>
  <cp:lastModifiedBy>Anton Cramer</cp:lastModifiedBy>
  <cp:lastPrinted>2018-10-19T06:43:20Z</cp:lastPrinted>
  <dcterms:modified xsi:type="dcterms:W3CDTF">2020-10-20T14:24:58Z</dcterms:modified>
  <cp:revision>1888</cp:revision>
  <dc:subject/>
  <dc:title>Cotta-Schule :: Online-Marketing :: Banner-Marketing</dc:title>
</cp:coreProperties>
</file>